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14400" y="744120"/>
            <a:ext cx="496584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0d4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90d4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5"/>
          </p:nvPr>
        </p:nvSpPr>
        <p:spPr>
          <a:xfrm>
            <a:off x="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6"/>
          </p:nvPr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CCC99-886F-4084-9C80-E96B5C525375}" type="slidenum"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B00FE-8982-4A8E-BA93-F5E998E85C34}" type="slidenum">
              <a:rPr b="0" lang="fi-F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915A-5F52-4A93-B1EB-DF67D1A3C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0d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085E-B8A9-422A-9819-3810E8A5E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0d4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6AD2-FC9A-4ED1-B8B4-2382CA7E6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0d4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9FAB-F8D8-4178-9525-917D04F09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0d4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0d4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0d4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0d4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0d4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0d4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1616-D55E-43B3-AF7B-7B7496BFE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0d4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0d4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0d4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0d4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0d4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0d4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CF38-F81E-457C-AF2B-45EA0709C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0d4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1D6C-0D88-4DF9-A400-899D6B292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0d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C95C-1E33-4D66-B10D-D8FE93065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EE13-8628-4195-8FA3-BD3642E4A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0d4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6305-4184-4FDC-9709-022A145E1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0d4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21D4-9F2C-4BB1-A518-32D6156F8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0d4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A880-A8AE-4359-9BB8-7E0B67960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5"/>
          <p:cNvSpPr/>
          <p:nvPr/>
        </p:nvSpPr>
        <p:spPr>
          <a:xfrm rot="10800000">
            <a:off x="2192400" y="6323040"/>
            <a:ext cx="6951600" cy="533520"/>
          </a:xfrm>
          <a:prstGeom prst="rect">
            <a:avLst/>
          </a:prstGeom>
          <a:solidFill>
            <a:srgbClr val="0090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0d4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90d4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533520" indent="-533520">
              <a:spcBef>
                <a:spcPts val="64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64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76520" indent="-304920">
              <a:spcBef>
                <a:spcPts val="64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95560" indent="-26676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95560" indent="-26676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95560" indent="-26676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057640" y="6516360"/>
            <a:ext cx="91440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800" spc="-1" strike="noStrike">
                <a:solidFill>
                  <a:srgbClr val="ffffff"/>
                </a:solidFill>
                <a:latin typeface="Times New Roman"/>
              </a:rPr>
              <a:t>20.5.201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105600" y="6510240"/>
            <a:ext cx="213336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12"/>
          <p:cNvSpPr/>
          <p:nvPr/>
        </p:nvSpPr>
        <p:spPr>
          <a:xfrm>
            <a:off x="0" y="0"/>
            <a:ext cx="8685360" cy="463680"/>
          </a:xfrm>
          <a:prstGeom prst="rect">
            <a:avLst/>
          </a:prstGeom>
          <a:solidFill>
            <a:srgbClr val="9ac6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71000" y="6516720"/>
            <a:ext cx="312480" cy="1461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2BB07-13CB-4E4A-A2B4-A70152C250DC}" type="slidenum">
              <a:rPr b="0" lang="fi-FI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7" descr="KanTa_logo"/>
          <p:cNvPicPr/>
          <p:nvPr/>
        </p:nvPicPr>
        <p:blipFill>
          <a:blip r:embed="rId2"/>
          <a:stretch/>
        </p:blipFill>
        <p:spPr>
          <a:xfrm>
            <a:off x="465120" y="6332400"/>
            <a:ext cx="1295280" cy="343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1"/>
          <p:cNvSpPr/>
          <p:nvPr/>
        </p:nvSpPr>
        <p:spPr>
          <a:xfrm rot="10800000">
            <a:off x="457200" y="4401720"/>
            <a:ext cx="8229600" cy="1643040"/>
          </a:xfrm>
          <a:prstGeom prst="rect">
            <a:avLst/>
          </a:prstGeom>
          <a:solidFill>
            <a:srgbClr val="0090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457200" y="-6480"/>
            <a:ext cx="8229600" cy="465120"/>
          </a:xfrm>
          <a:prstGeom prst="rect">
            <a:avLst/>
          </a:prstGeom>
          <a:solidFill>
            <a:srgbClr val="9ac6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6" descr="KanTa_logo"/>
          <p:cNvPicPr/>
          <p:nvPr/>
        </p:nvPicPr>
        <p:blipFill>
          <a:blip r:embed="rId2"/>
          <a:stretch/>
        </p:blipFill>
        <p:spPr>
          <a:xfrm>
            <a:off x="3908520" y="6126120"/>
            <a:ext cx="1295280" cy="3430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7" descr="STM_1_logo"/>
          <p:cNvPicPr/>
          <p:nvPr/>
        </p:nvPicPr>
        <p:blipFill>
          <a:blip r:embed="rId3"/>
          <a:stretch/>
        </p:blipFill>
        <p:spPr>
          <a:xfrm>
            <a:off x="281160" y="6238800"/>
            <a:ext cx="1452240" cy="4348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8" descr="Kela_Logo"/>
          <p:cNvPicPr/>
          <p:nvPr/>
        </p:nvPicPr>
        <p:blipFill>
          <a:blip r:embed="rId4"/>
          <a:stretch/>
        </p:blipFill>
        <p:spPr>
          <a:xfrm>
            <a:off x="8112240" y="6300720"/>
            <a:ext cx="763560" cy="3682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9" descr="Kansallinen-Terveysarkisto"/>
          <p:cNvPicPr/>
          <p:nvPr/>
        </p:nvPicPr>
        <p:blipFill>
          <a:blip r:embed="rId5"/>
          <a:stretch/>
        </p:blipFill>
        <p:spPr>
          <a:xfrm>
            <a:off x="3443400" y="6516720"/>
            <a:ext cx="2249280" cy="1969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0d4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90d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533520" indent="-533520">
              <a:spcBef>
                <a:spcPts val="64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64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76520" indent="-304920">
              <a:spcBef>
                <a:spcPts val="64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95560" indent="-26676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95560" indent="-26676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95560" indent="-26676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5" descr="PowerPoint_kansikuva"/>
          <p:cNvPicPr/>
          <p:nvPr/>
        </p:nvPicPr>
        <p:blipFill>
          <a:blip r:embed="rId1"/>
          <a:srcRect l="0" t="1393" r="0" b="26543"/>
          <a:stretch/>
        </p:blipFill>
        <p:spPr>
          <a:xfrm>
            <a:off x="457200" y="457200"/>
            <a:ext cx="8229600" cy="394488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5292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1440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ffffff"/>
                </a:solidFill>
                <a:latin typeface="Arial"/>
              </a:rPr>
              <a:t>eReseptin sanomat</a:t>
            </a:r>
            <a:br>
              <a:rPr sz="3200"/>
            </a:br>
            <a:r>
              <a:rPr b="1" lang="fi-FI" sz="2400" spc="-1" strike="noStrike">
                <a:solidFill>
                  <a:srgbClr val="ffffff"/>
                </a:solidFill>
                <a:latin typeface="Arial"/>
              </a:rPr>
              <a:t>muutokset 3.0 versioon</a:t>
            </a:r>
            <a:endParaRPr b="0" lang="en-US" sz="2400" spc="-1" strike="noStrike">
              <a:solidFill>
                <a:srgbClr val="0090d4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544032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144000" anchor="ctr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i-FI" sz="1600" spc="-1" strike="noStrike">
                <a:solidFill>
                  <a:srgbClr val="ffffff"/>
                </a:solidFill>
                <a:latin typeface="Arial"/>
              </a:rPr>
              <a:t>Katriina Köl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ffffff"/>
                </a:solidFill>
                <a:latin typeface="Arial"/>
              </a:rPr>
              <a:t>8.6.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90d4"/>
                </a:solidFill>
                <a:latin typeface="Arial"/>
              </a:rPr>
              <a:t>3.0 versioon tehdyt muutokset</a:t>
            </a:r>
            <a:endParaRPr b="0" lang="en-US" sz="3200" spc="-1" strike="noStrike">
              <a:solidFill>
                <a:srgbClr val="0090d4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63680" y="16178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 fontScale="97000"/>
          </a:bodyPr>
          <a:p>
            <a:pPr marL="517320" indent="-517320">
              <a:spcBef>
                <a:spcPts val="75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Arial"/>
              </a:rPr>
              <a:t>Sairaanhoitajien lääkkeenmääräämisoikeu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spcBef>
                <a:spcPts val="75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Arial"/>
              </a:rPr>
              <a:t>Uusimispyynnön PULL-mall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spcBef>
                <a:spcPts val="75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Arial"/>
              </a:rPr>
              <a:t>Uudet hakuehdo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spcBef>
                <a:spcPts val="75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Arial"/>
              </a:rPr>
              <a:t>Lääketoimitukseen lisätty 2 uutta tieto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spcBef>
                <a:spcPts val="75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Arial"/>
              </a:rPr>
              <a:t>Lääkemääräyksen boolean tyyppiset tiedot muutettu pakollisiks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spcBef>
                <a:spcPts val="75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Arial"/>
              </a:rPr>
              <a:t>Tehty tekstitäsmennyksiä ohjelmistotoimittajien kysymysten pohjal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361360" cy="106668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90d4"/>
                </a:solidFill>
                <a:latin typeface="Arial"/>
              </a:rPr>
              <a:t>Lääkemääräyksen cda</a:t>
            </a:r>
            <a:endParaRPr b="0" lang="en-US" sz="3200" spc="-1" strike="noStrike">
              <a:solidFill>
                <a:srgbClr val="0090d4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79520" y="18144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533520" indent="-533520">
              <a:spcBef>
                <a:spcPts val="75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Arial"/>
              </a:rPr>
              <a:t>Ammattihenkilön tiedo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601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808080"/>
                </a:solidFill>
                <a:latin typeface="Arial"/>
              </a:rPr>
              <a:t>Suorittajan roolin tilalle Valviran Ammattioikeus koodiston mukainen tieto suorittajan ammattioikeudesta 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1" marL="838080" indent="-380880">
              <a:spcBef>
                <a:spcPts val="601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808080"/>
                </a:solidFill>
                <a:latin typeface="Arial"/>
              </a:rPr>
              <a:t>Erikoisalan koodistoksi korjattu Valviran tutkintokoodisto, aikaisemmin virheellisesti Hilmo - erikoisalat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533520" indent="-533520">
              <a:spcBef>
                <a:spcPts val="75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Arial"/>
              </a:rPr>
              <a:t>Boolean tyyppiset tiedot muutettu pakollisiks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99960" y="479160"/>
            <a:ext cx="8253360" cy="106668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90d4"/>
                </a:solidFill>
                <a:latin typeface="Arial"/>
              </a:rPr>
              <a:t>Lääkemääräyksen cda</a:t>
            </a:r>
            <a:endParaRPr b="0" lang="en-US" sz="3200" spc="-1" strike="noStrike">
              <a:solidFill>
                <a:srgbClr val="0090d4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2680" y="16336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533520" indent="-533520">
              <a:spcBef>
                <a:spcPts val="75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Arial"/>
              </a:rPr>
              <a:t>Toimituksen tietosisältöön lisätty uudet tiedot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601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8080"/>
                </a:solidFill>
                <a:latin typeface="Arial"/>
              </a:rPr>
              <a:t>Toimitustietotarran annostusohje (annostus + käyttötarkoitus) lisätty</a:t>
            </a:r>
            <a:r>
              <a:rPr b="0" lang="fi-FI" sz="2400" spc="-1" strike="noStrike">
                <a:solidFill>
                  <a:srgbClr val="808080"/>
                </a:solidFill>
                <a:latin typeface="Arial"/>
              </a:rPr>
              <a:t> toimituksen muihin tietoihin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2" marL="12574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apteekin aukikirjoittama annostusohje on apteekkijärjestelmän käytettävissä seuraavaa toimitusta tehtäess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601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808080"/>
                </a:solidFill>
                <a:latin typeface="Arial"/>
              </a:rPr>
              <a:t>Laite-tieto lisätty toimitukseen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3960" y="657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90d4"/>
                </a:solidFill>
                <a:latin typeface="Arial"/>
              </a:rPr>
              <a:t>Uudet hakuehdot</a:t>
            </a:r>
            <a:endParaRPr b="0" lang="en-US" sz="3200" spc="-1" strike="noStrike">
              <a:solidFill>
                <a:srgbClr val="0090d4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28760" y="1918800"/>
            <a:ext cx="8229600" cy="436428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533520" indent="-533520">
              <a:spcBef>
                <a:spcPts val="64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informationRecipi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808080"/>
                </a:solidFill>
                <a:latin typeface="Arial"/>
              </a:rPr>
              <a:t>Tietylle palveluyksikölle kohdistetut uusimispyynnöt (uusimispyynnön PULL-malli)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533520" indent="-533520">
              <a:spcBef>
                <a:spcPts val="64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specialQuery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808080"/>
                </a:solidFill>
                <a:latin typeface="Arial"/>
              </a:rPr>
              <a:t>Lääkemääräysten haku ATC-koodin perusteella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533520" indent="-533520">
              <a:spcBef>
                <a:spcPts val="64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recentDispenseinform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808080"/>
                </a:solidFill>
                <a:latin typeface="Arial"/>
              </a:rPr>
              <a:t>Lääkemääräysten haku toimituspäivän mukaan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533520" indent="-533520">
              <a:spcBef>
                <a:spcPts val="64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clinicalDocument.id:llä voidaan hakea myös muita asiakirjoja kuin lääkemääräyksiä (esim. uusimispyyntöjä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49280" y="5936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90d4"/>
                </a:solidFill>
                <a:latin typeface="Arial"/>
              </a:rPr>
              <a:t>Uudet hakuehdot</a:t>
            </a:r>
            <a:endParaRPr b="0" lang="en-US" sz="3200" spc="-1" strike="noStrike">
              <a:solidFill>
                <a:srgbClr val="0090d4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65120" y="1790640"/>
            <a:ext cx="8229600" cy="422928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 fontScale="98000"/>
          </a:bodyPr>
          <a:p>
            <a:pPr marL="522720" indent="-522720">
              <a:spcBef>
                <a:spcPts val="64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Apteekkien kysely omalle apteekille annosjakeluvarattujen lääkemääräysten korjauksista ja mitätöinneistä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21160" indent="-372960">
              <a:spcBef>
                <a:spcPts val="4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808080"/>
                </a:solidFill>
                <a:latin typeface="Arial"/>
              </a:rPr>
              <a:t>Dokumenttityypiksi (ClinicalDocument.code) kyselyssä annetaan koodit 2 TAI 3 (molemmat, yhdistetään TAI-operaattorilla). 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821160" indent="-372960">
              <a:spcBef>
                <a:spcPts val="4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808080"/>
                </a:solidFill>
                <a:latin typeface="Arial"/>
              </a:rPr>
              <a:t>Kyselyn aikaväli ilmoitetaan ClinicalDocument.effectiveTime –kentän avulla.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821160" indent="-372960">
              <a:spcBef>
                <a:spcPts val="4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808080"/>
                </a:solidFill>
                <a:latin typeface="Arial"/>
              </a:rPr>
              <a:t>Hakua suorittavan apteekin OID ilmoitetaan representedOrganization.id –kentässä.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821160" indent="-372960">
              <a:spcBef>
                <a:spcPts val="4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808080"/>
                </a:solidFill>
                <a:latin typeface="Arial"/>
              </a:rPr>
              <a:t>Kyselyn kontrollikehyksessä pitää antaa kyselyn syyksi (reasonCode) Korjatut ja mitätöidyt annosjakelulääkemääräykset (koodi 17).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522720" indent="-522720">
              <a:spcBef>
                <a:spcPts val="64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41360" y="6379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90d4"/>
                </a:solidFill>
                <a:latin typeface="Arial"/>
              </a:rPr>
              <a:t>3.0 versioon tehdyt muutokset</a:t>
            </a:r>
            <a:endParaRPr b="0" lang="en-US" sz="3200" spc="-1" strike="noStrike">
              <a:solidFill>
                <a:srgbClr val="0090d4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533520" indent="-533520"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Paketti vielä osin keskeneräi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Esimerkkisanomat tullaan päivittämään vastaamaan uusinta versiota (tällä hetkellä 2.5 version mukais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90d4"/>
                </a:solidFill>
                <a:latin typeface="Arial"/>
              </a:rPr>
              <a:t>                                                 </a:t>
            </a:r>
            <a:endParaRPr b="0" lang="en-US" sz="3200" spc="-1" strike="noStrike">
              <a:solidFill>
                <a:srgbClr val="0090d4"/>
              </a:solidFill>
              <a:latin typeface="Arial"/>
            </a:endParaRPr>
          </a:p>
        </p:txBody>
      </p:sp>
      <p:pic>
        <p:nvPicPr>
          <p:cNvPr id="111" name="Picture 5" descr="eResepti_logo"/>
          <p:cNvPicPr/>
          <p:nvPr/>
        </p:nvPicPr>
        <p:blipFill>
          <a:blip r:embed="rId1"/>
          <a:stretch/>
        </p:blipFill>
        <p:spPr>
          <a:xfrm>
            <a:off x="2549520" y="3281400"/>
            <a:ext cx="3684600" cy="8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0T11:33:32Z</dcterms:created>
  <dc:creator>Kela</dc:creator>
  <dc:description/>
  <dc:language>en-US</dc:language>
  <cp:lastModifiedBy>ta40zdi</cp:lastModifiedBy>
  <cp:lastPrinted>2007-12-20T08:44:53Z</cp:lastPrinted>
  <dcterms:modified xsi:type="dcterms:W3CDTF">2011-08-30T10:35:44Z</dcterms:modified>
  <cp:revision>200</cp:revision>
  <dc:subject/>
  <dc:title>Pääotsikko Arial Bold 32 pistettä</dc:title>
</cp:coreProperties>
</file>