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0d4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0ADE-B338-400C-A33A-4C37377D8DF7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E131-4C6E-41BB-A703-855FF017D06B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C9E8-FB67-4E8A-84E5-B3A54330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940-B001-43FB-BA85-462F83FC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E99-88E2-4EA2-89C4-15D3107B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76A-F69F-4E0B-9CD8-6A9E7B7E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075-F3E9-4CFC-AE86-DE10D924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AF6-C36E-4BC8-9FBB-9A635B7F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2E6E-E8A9-42E5-9B5C-36A7F4FE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366-66AD-415A-B14C-CED5CCFC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079B-3968-4313-902E-2BC68840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9A8-BD9A-4DA2-911C-7B8EF85C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499-7157-4CDC-B1D7-ABD35119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4FD-3B0B-45FA-89C8-4E67E336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 rot="10800000">
            <a:off x="2192400" y="6323040"/>
            <a:ext cx="6951600" cy="533520"/>
          </a:xfrm>
          <a:prstGeom prst="rect">
            <a:avLst/>
          </a:prstGeom>
          <a:solidFill>
            <a:srgbClr val="009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0d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64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57640" y="6516360"/>
            <a:ext cx="914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ffffff"/>
                </a:solidFill>
                <a:latin typeface="Times New Roman"/>
              </a:rPr>
              <a:t>20.5.20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105600" y="6510240"/>
            <a:ext cx="21333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0"/>
            <a:ext cx="8685360" cy="463680"/>
          </a:xfrm>
          <a:prstGeom prst="rect">
            <a:avLst/>
          </a:prstGeom>
          <a:solidFill>
            <a:srgbClr val="9ac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71000" y="6516720"/>
            <a:ext cx="3124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CFA1-49FA-469D-9D1B-4E18DD58F84D}" type="slidenum">
              <a:rPr b="0" lang="fi-FI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7" descr="KanTa_logo"/>
          <p:cNvPicPr/>
          <p:nvPr/>
        </p:nvPicPr>
        <p:blipFill>
          <a:blip r:embed="rId2"/>
          <a:stretch/>
        </p:blipFill>
        <p:spPr>
          <a:xfrm>
            <a:off x="465120" y="6332400"/>
            <a:ext cx="1295280" cy="34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 rot="10800000">
            <a:off x="457200" y="4401720"/>
            <a:ext cx="8229600" cy="1643040"/>
          </a:xfrm>
          <a:prstGeom prst="rect">
            <a:avLst/>
          </a:prstGeom>
          <a:solidFill>
            <a:srgbClr val="009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57200" y="-6480"/>
            <a:ext cx="8229600" cy="465120"/>
          </a:xfrm>
          <a:prstGeom prst="rect">
            <a:avLst/>
          </a:prstGeom>
          <a:solidFill>
            <a:srgbClr val="9ac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KanTa_logo"/>
          <p:cNvPicPr/>
          <p:nvPr/>
        </p:nvPicPr>
        <p:blipFill>
          <a:blip r:embed="rId2"/>
          <a:stretch/>
        </p:blipFill>
        <p:spPr>
          <a:xfrm>
            <a:off x="3908520" y="6126120"/>
            <a:ext cx="1295280" cy="34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STM_1_logo"/>
          <p:cNvPicPr/>
          <p:nvPr/>
        </p:nvPicPr>
        <p:blipFill>
          <a:blip r:embed="rId3"/>
          <a:stretch/>
        </p:blipFill>
        <p:spPr>
          <a:xfrm>
            <a:off x="281160" y="6238800"/>
            <a:ext cx="1452240" cy="434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Kela_Logo"/>
          <p:cNvPicPr/>
          <p:nvPr/>
        </p:nvPicPr>
        <p:blipFill>
          <a:blip r:embed="rId4"/>
          <a:stretch/>
        </p:blipFill>
        <p:spPr>
          <a:xfrm>
            <a:off x="8112240" y="6300720"/>
            <a:ext cx="763560" cy="368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Kansallinen-Terveysarkisto"/>
          <p:cNvPicPr/>
          <p:nvPr/>
        </p:nvPicPr>
        <p:blipFill>
          <a:blip r:embed="rId5"/>
          <a:stretch/>
        </p:blipFill>
        <p:spPr>
          <a:xfrm>
            <a:off x="3443400" y="6516720"/>
            <a:ext cx="2249280" cy="196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0d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64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PowerPoint_kansikuva"/>
          <p:cNvPicPr/>
          <p:nvPr/>
        </p:nvPicPr>
        <p:blipFill>
          <a:blip r:embed="rId1"/>
          <a:srcRect l="0" t="1393" r="0" b="26543"/>
          <a:stretch/>
        </p:blipFill>
        <p:spPr>
          <a:xfrm>
            <a:off x="457200" y="457200"/>
            <a:ext cx="8229600" cy="3944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5292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144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ffff"/>
                </a:solidFill>
                <a:latin typeface="Arial"/>
              </a:rPr>
              <a:t>eReseptin sanomat</a:t>
            </a:r>
            <a:br>
              <a:rPr sz="3200"/>
            </a:b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muutokset 3.0 versioon</a:t>
            </a:r>
            <a:endParaRPr b="0" lang="en-US" sz="24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544032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144000" anchor="ctr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Katriina Kö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8.6.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3.0 versioon tehdyt muutokse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3680" y="1617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7000"/>
          </a:bodyPr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Sairaanhoitajien lääkkeenmääräämisoik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Uusimispyynnön PULL-mal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Uudet hakuehd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Lääketoimitukseen lisätty 2 uutta tieto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Lääkemääräyksen boolean tyyppiset tiedot muutettu pakollisik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ehty tekstitäsmennyksiä ohjelmistotoimittajien kysymysten pohjal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6136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Lääkemääräyksen cda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79520" y="18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533520" indent="-5335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Ammattihenkilön tied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808080"/>
                </a:solidFill>
                <a:latin typeface="Arial"/>
              </a:rPr>
              <a:t>Suorittajan roolin tilalle Valviran Ammattioikeus koodiston mukainen tieto suorittajan ammattioikeudesta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808080"/>
                </a:solidFill>
                <a:latin typeface="Arial"/>
              </a:rPr>
              <a:t>Erikoisalan koodistoksi korjattu Valviran tutkintokoodisto, aikaisemmin virheellisesti Hilmo - erikoisal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Boolean tyyppiset tiedot muutettu pakollisik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9960" y="479160"/>
            <a:ext cx="825336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Lääkemääräyksen cda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2680" y="1633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533520" indent="-5335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oimituksen tietosisältöön lisätty uudet tiedo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Toimitustietotarran annostusohje (annostus + käyttötarkoitus) lisätty</a:t>
            </a:r>
            <a:r>
              <a:rPr b="0" lang="fi-FI" sz="2400" spc="-1" strike="noStrike">
                <a:solidFill>
                  <a:srgbClr val="808080"/>
                </a:solidFill>
                <a:latin typeface="Arial"/>
              </a:rPr>
              <a:t> toimituksen muihin tietoihi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teekin aukikirjoittama annostusohje on apteekkijärjestelmän käytettävissä seuraavaa toimitusta tehtäess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808080"/>
                </a:solidFill>
                <a:latin typeface="Arial"/>
              </a:rPr>
              <a:t>Laite-tieto lisätty toimituksee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3960" y="657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Uudet hakuehdo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8760" y="1918800"/>
            <a:ext cx="8229600" cy="4364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informationRecip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Tietylle palveluyksikölle kohdistetut uusimispyynnöt (uusimispyynnön PULL-malli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pecialQuery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Lääkemääräysten haku ATC-koodin perusteell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ecentDispense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Lääkemääräysten haku toimituspäivän muka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clinicalDocument.id:llä voidaan hakea myös muita asiakirjoja kuin lääkemääräyksiä (esim. uusimispyyntöjä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9280" y="593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Uudet hakuehdo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5120" y="1790640"/>
            <a:ext cx="8229600" cy="4229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8000"/>
          </a:bodyPr>
          <a:p>
            <a:pPr marL="522720" indent="-5227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pteekkien kysely omalle apteekille annosjakeluvarattujen lääkemääräysten korjauksista ja mitätöinneis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Dokumenttityypiksi (ClinicalDocument.code) kyselyssä annetaan koodit 2 TAI 3 (molemmat, yhdistetään TAI-operaattorilla).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1160" indent="-37296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Kyselyn aikaväli ilmoitetaan ClinicalDocument.effectiveTime –kentän avulla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1160" indent="-37296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Hakua suorittavan apteekin OID ilmoitetaan representedOrganization.id –kentässä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1160" indent="-37296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Kyselyn kontrollikehyksessä pitää antaa kyselyn syyksi (reasonCode) Korjatut ja mitätöidyt annosjakelulääkemääräykset (koodi 17)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522720" indent="-5227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1360" y="637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3.0 versioon tehdyt muutokse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aketti vielä osin keskenerä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Esimerkkisanomat tullaan päivittämään vastaamaan uusinta versiota (tällä hetkellä 2.5 version mukai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pic>
        <p:nvPicPr>
          <p:cNvPr id="111" name="Picture 5" descr="eResepti_logo"/>
          <p:cNvPicPr/>
          <p:nvPr/>
        </p:nvPicPr>
        <p:blipFill>
          <a:blip r:embed="rId1"/>
          <a:stretch/>
        </p:blipFill>
        <p:spPr>
          <a:xfrm>
            <a:off x="2549520" y="3281400"/>
            <a:ext cx="3684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1:33:32Z</dcterms:created>
  <dc:creator>Kela</dc:creator>
  <dc:description/>
  <dc:language>en-US</dc:language>
  <cp:lastModifiedBy>ta40zdi</cp:lastModifiedBy>
  <cp:lastPrinted>2007-12-20T08:44:53Z</cp:lastPrinted>
  <dcterms:modified xsi:type="dcterms:W3CDTF">2011-08-30T10:35:44Z</dcterms:modified>
  <cp:revision>200</cp:revision>
  <dc:subject/>
  <dc:title>Pääotsikko Arial Bold 32 pistettä</dc:title>
</cp:coreProperties>
</file>