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CF5-6CB1-4116-A504-1151A320C316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84E6-3D56-4ACF-BC2A-758194E7F19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45-ACB6-463A-84EB-A333BA36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CD5-7CEF-4ABD-8764-F24684A8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7AA-8A10-412F-8E51-9A8AC98C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283-ED3F-4307-9623-FC1CCED1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6A0-78A0-443C-8A5F-756EA213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BA5-C687-4E3E-A43D-4AF8BCCA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162-226A-4107-8340-85D477A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18A-4571-4DE3-A5E4-514BC56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F89-04D5-46EC-8C8E-95F764B4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347-B709-411B-A850-4E0D21D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A92-A893-4580-92AE-FC5B97A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7FF-6F02-4050-AE27-CA2057E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 rot="10800000">
            <a:off x="2192400" y="6323040"/>
            <a:ext cx="6951600" cy="53352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57640" y="65163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20.5.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05600" y="651024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0"/>
            <a:ext cx="8685360" cy="46368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71000" y="6516720"/>
            <a:ext cx="3124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C73F-2C09-45A3-8C7E-0F3EA28DF0E5}" type="slidenum"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KanTa_logo"/>
          <p:cNvPicPr/>
          <p:nvPr/>
        </p:nvPicPr>
        <p:blipFill>
          <a:blip r:embed="rId2"/>
          <a:stretch/>
        </p:blipFill>
        <p:spPr>
          <a:xfrm>
            <a:off x="465120" y="6332400"/>
            <a:ext cx="12952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 rot="10800000">
            <a:off x="457200" y="4401720"/>
            <a:ext cx="8229600" cy="164304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57200" y="-6480"/>
            <a:ext cx="8229600" cy="46512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anTa_logo"/>
          <p:cNvPicPr/>
          <p:nvPr/>
        </p:nvPicPr>
        <p:blipFill>
          <a:blip r:embed="rId2"/>
          <a:stretch/>
        </p:blipFill>
        <p:spPr>
          <a:xfrm>
            <a:off x="3908520" y="6126120"/>
            <a:ext cx="129528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STM_1_logo"/>
          <p:cNvPicPr/>
          <p:nvPr/>
        </p:nvPicPr>
        <p:blipFill>
          <a:blip r:embed="rId3"/>
          <a:stretch/>
        </p:blipFill>
        <p:spPr>
          <a:xfrm>
            <a:off x="281160" y="6238800"/>
            <a:ext cx="145224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Kela_Logo"/>
          <p:cNvPicPr/>
          <p:nvPr/>
        </p:nvPicPr>
        <p:blipFill>
          <a:blip r:embed="rId4"/>
          <a:stretch/>
        </p:blipFill>
        <p:spPr>
          <a:xfrm>
            <a:off x="8112240" y="6300720"/>
            <a:ext cx="763560" cy="36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ansallinen-Terveysarkisto"/>
          <p:cNvPicPr/>
          <p:nvPr/>
        </p:nvPicPr>
        <p:blipFill>
          <a:blip r:embed="rId5"/>
          <a:stretch/>
        </p:blipFill>
        <p:spPr>
          <a:xfrm>
            <a:off x="3443400" y="6516720"/>
            <a:ext cx="2249280" cy="19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owerPoint_kansikuva"/>
          <p:cNvPicPr/>
          <p:nvPr/>
        </p:nvPicPr>
        <p:blipFill>
          <a:blip r:embed="rId1"/>
          <a:srcRect l="0" t="1393" r="0" b="26543"/>
          <a:stretch/>
        </p:blipFill>
        <p:spPr>
          <a:xfrm>
            <a:off x="457200" y="457200"/>
            <a:ext cx="8229600" cy="3944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52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ffff"/>
                </a:solidFill>
                <a:latin typeface="Arial"/>
              </a:rPr>
              <a:t>eReseptin sanomat</a:t>
            </a:r>
            <a:br>
              <a:rPr sz="3200"/>
            </a:b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muutokset 3.0 versioon</a:t>
            </a:r>
            <a:endParaRPr b="0" lang="en-US" sz="24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544032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triina Kö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8.6.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3680" y="161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airaanhoitajien lääkkeenmääräämisoik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simispyynnön PULL-ma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det hakueh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toimitukseen lisätty 2 uutta tiet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määräyksen 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ehty tekstitäsmennyksiä ohjelmistotoimittajien kysymysten pohjal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1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9520" y="18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mmattihenkilön tie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Suorittajan roolin tilalle Valviran Ammattioikeus koodiston mukainen tieto suorittajan ammattioikeudest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Erikoisalan koodistoksi korjattu Valviran tutkintokoodisto, aikaisemmin virheellisesti Hilmo - erikoisal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960" y="479160"/>
            <a:ext cx="8253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2680" y="1633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ituksen tietosisältöön lisätty uudet tied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oimitustietotarran annostusohje (annostus + käyttötarkoitus) lisätty</a:t>
            </a: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 toimituksen muihin tietoihi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teekin aukikirjoittama annostusohje on apteekkijärjestelmän käytettävissä seuraavaa toimitusta tehtä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Laite-tieto lisätty toimitukse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91880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nformation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Tietylle palveluyksikölle kohdistetut uusimispyynnöt (uusimispyynnön PULL-malli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pecialQuery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ATC-koodin perusteell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centDispense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toimituspäivän muka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clinicalDocument.id:llä voidaan hakea myös muita asiakirjoja kuin lääkemääräyksiä (esim. uusimispyyntöj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593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5120" y="179064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pteekkien kysely omalle apteekille annosjakeluvarattujen lääkemääräysten korjauksista ja mitätöinne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Dokumenttityypiksi (ClinicalDocument.code) kyselyssä annetaan koodit 2 TAI 3 (molemmat, yhdistetään TAI-operaattorilla)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aikaväli ilmoitetaan ClinicalDocument.effectiveTime –kentän avulla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Hakua suorittavan apteekin OID ilmoitetaan representedOrganization.id –kentässä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kontrollikehyksessä pitää antaa kyselyn syyksi (reasonCode) Korjatut ja mitätöidyt annosjakelulääkemääräykset (koodi 17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360" y="637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etti vielä osin keskener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imerkkisanomat tullaan päivittämään vastaamaan uusinta versiota (tällä hetkellä 2.5 version mukai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pic>
        <p:nvPicPr>
          <p:cNvPr id="111" name="Picture 5" descr="eResepti_logo"/>
          <p:cNvPicPr/>
          <p:nvPr/>
        </p:nvPicPr>
        <p:blipFill>
          <a:blip r:embed="rId1"/>
          <a:stretch/>
        </p:blipFill>
        <p:spPr>
          <a:xfrm>
            <a:off x="2549520" y="3281400"/>
            <a:ext cx="3684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33:32Z</dcterms:created>
  <dc:creator>Kela</dc:creator>
  <dc:description/>
  <dc:language>en-US</dc:language>
  <cp:lastModifiedBy>ta40zdi</cp:lastModifiedBy>
  <cp:lastPrinted>2007-12-20T08:44:53Z</cp:lastPrinted>
  <dcterms:modified xsi:type="dcterms:W3CDTF">2011-08-30T10:35:44Z</dcterms:modified>
  <cp:revision>200</cp:revision>
  <dc:subject/>
  <dc:title>Pääotsikko Arial Bold 32 pistettä</dc:title>
</cp:coreProperties>
</file>