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CC95-91DA-437C-B5E6-4D585BE0A00E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092F-753E-4D8C-BF3D-4CE8B4330CC6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05C-1AAE-4A4E-A73F-12BFC31F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9AC-2E47-4B41-8EEE-E3C7B341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61F-6CE8-40EF-8A96-675DFD66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C5B-9216-4C60-9C03-8DC63E49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348-0276-4AF2-B170-01CB10E1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A77-9CA3-407B-89C5-BF85B2E1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CE2-70E2-41C5-A310-73908CF4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A9C-3B2D-4186-811D-AA2FECAE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7FD-5429-4471-BA2D-37CC28B6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D9E-CB31-4189-8CA3-1E0B324A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766-8CAC-4163-AE92-3CC7A569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369-485B-4897-8544-5B884908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 rot="10800000">
            <a:off x="2192400" y="6323040"/>
            <a:ext cx="6951600" cy="533520"/>
          </a:xfrm>
          <a:prstGeom prst="rect">
            <a:avLst/>
          </a:prstGeom>
          <a:solidFill>
            <a:srgbClr val="009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64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57640" y="6516360"/>
            <a:ext cx="914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Times New Roman"/>
              </a:rPr>
              <a:t>20.5.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105600" y="6510240"/>
            <a:ext cx="21333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0"/>
            <a:ext cx="8685360" cy="463680"/>
          </a:xfrm>
          <a:prstGeom prst="rect">
            <a:avLst/>
          </a:prstGeom>
          <a:solidFill>
            <a:srgbClr val="9ac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71000" y="6516720"/>
            <a:ext cx="3124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A41C-526A-4DC0-BD0F-B47744E1B75C}" type="slidenum">
              <a:rPr b="0" lang="fi-FI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7" descr="KanTa_logo"/>
          <p:cNvPicPr/>
          <p:nvPr/>
        </p:nvPicPr>
        <p:blipFill>
          <a:blip r:embed="rId2"/>
          <a:stretch/>
        </p:blipFill>
        <p:spPr>
          <a:xfrm>
            <a:off x="465120" y="6332400"/>
            <a:ext cx="1295280" cy="3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 rot="10800000">
            <a:off x="457200" y="4401720"/>
            <a:ext cx="8229600" cy="1643040"/>
          </a:xfrm>
          <a:prstGeom prst="rect">
            <a:avLst/>
          </a:prstGeom>
          <a:solidFill>
            <a:srgbClr val="009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57200" y="-6480"/>
            <a:ext cx="8229600" cy="465120"/>
          </a:xfrm>
          <a:prstGeom prst="rect">
            <a:avLst/>
          </a:prstGeom>
          <a:solidFill>
            <a:srgbClr val="9ac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KanTa_logo"/>
          <p:cNvPicPr/>
          <p:nvPr/>
        </p:nvPicPr>
        <p:blipFill>
          <a:blip r:embed="rId2"/>
          <a:stretch/>
        </p:blipFill>
        <p:spPr>
          <a:xfrm>
            <a:off x="3908520" y="6126120"/>
            <a:ext cx="1295280" cy="34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STM_1_logo"/>
          <p:cNvPicPr/>
          <p:nvPr/>
        </p:nvPicPr>
        <p:blipFill>
          <a:blip r:embed="rId3"/>
          <a:stretch/>
        </p:blipFill>
        <p:spPr>
          <a:xfrm>
            <a:off x="281160" y="6238800"/>
            <a:ext cx="1452240" cy="43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Kela_Logo"/>
          <p:cNvPicPr/>
          <p:nvPr/>
        </p:nvPicPr>
        <p:blipFill>
          <a:blip r:embed="rId4"/>
          <a:stretch/>
        </p:blipFill>
        <p:spPr>
          <a:xfrm>
            <a:off x="8112240" y="6300720"/>
            <a:ext cx="763560" cy="368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ansallinen-Terveysarkisto"/>
          <p:cNvPicPr/>
          <p:nvPr/>
        </p:nvPicPr>
        <p:blipFill>
          <a:blip r:embed="rId5"/>
          <a:stretch/>
        </p:blipFill>
        <p:spPr>
          <a:xfrm>
            <a:off x="3443400" y="6516720"/>
            <a:ext cx="2249280" cy="196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64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owerPoint_kansikuva"/>
          <p:cNvPicPr/>
          <p:nvPr/>
        </p:nvPicPr>
        <p:blipFill>
          <a:blip r:embed="rId1"/>
          <a:srcRect l="0" t="1393" r="0" b="26543"/>
          <a:stretch/>
        </p:blipFill>
        <p:spPr>
          <a:xfrm>
            <a:off x="457200" y="457200"/>
            <a:ext cx="8229600" cy="3944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529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144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ffff"/>
                </a:solidFill>
                <a:latin typeface="Arial"/>
              </a:rPr>
              <a:t>eReseptin sanomat</a:t>
            </a:r>
            <a:br>
              <a:rPr sz="3200"/>
            </a:b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muutokset 3.0 versioon</a:t>
            </a:r>
            <a:endParaRPr b="0" lang="en-US" sz="24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544032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144000"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Katriina Kö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8.6.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3.0 versioon tehdyt muutokse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3680" y="1617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7000"/>
          </a:bodyPr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Sairaanhoitajien lääkkeenmääräämisoik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Uusimispyynnön PULL-mal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Uudet hakuehd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Lääketoimitukseen lisätty 2 uutta tieto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Lääkemääräyksen boolean tyyppiset tiedot muutettu pakollisik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ehty tekstitäsmennyksiä ohjelmistotoimittajien kysymysten pohjal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6136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Lääkemääräyksen cda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79520" y="18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Ammattihenkilön tied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Suorittajan roolin tilalle Valviran Ammattioikeus koodiston mukainen tieto suorittajan ammattioikeudesta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Erikoisalan koodistoksi korjattu Valviran tutkintokoodisto, aikaisemmin virheellisesti Hilmo - erikoisal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Boolean tyyppiset tiedot muutettu pakollisik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960" y="479160"/>
            <a:ext cx="825336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Lääkemääräyksen cda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2680" y="1633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oimituksen tietosisältöön lisätty uudet tiedo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Toimitustietotarran annostusohje (annostus + käyttötarkoitus) lisätty</a:t>
            </a: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 toimituksen muihin tietoihi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teekin aukikirjoittama annostusohje on apteekkijärjestelmän käytettävissä seuraavaa toimitusta tehtäe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Laite-tieto lisätty toimituksee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3960" y="657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Uudet hakuehdo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1918800"/>
            <a:ext cx="8229600" cy="4364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nformationRecip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Tietylle palveluyksikölle kohdistetut uusimispyynnöt (uusimispyynnön PULL-malli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pecialQuery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Lääkemääräysten haku ATC-koodin perusteell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ecentDispense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Lääkemääräysten haku toimituspäivän muka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clinicalDocument.id:llä voidaan hakea myös muita asiakirjoja kuin lääkemääräyksiä (esim. uusimispyyntöjä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9280" y="593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Uudet hakuehdo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5120" y="1790640"/>
            <a:ext cx="8229600" cy="4229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8000"/>
          </a:bodyPr>
          <a:p>
            <a:pPr marL="522720" indent="-5227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pteekkien kysely omalle apteekille annosjakeluvarattujen lääkemääräysten korjauksista ja mitätöinnei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Dokumenttityypiksi (ClinicalDocument.code) kyselyssä annetaan koodit 2 TAI 3 (molemmat, yhdistetään TAI-operaattorilla)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Kyselyn aikaväli ilmoitetaan ClinicalDocument.effectiveTime –kentän avulla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Hakua suorittavan apteekin OID ilmoitetaan representedOrganization.id –kentässä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Kyselyn kontrollikehyksessä pitää antaa kyselyn syyksi (reasonCode) Korjatut ja mitätöidyt annosjakelulääkemääräykset (koodi 17)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22720" indent="-5227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1360" y="637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3.0 versioon tehdyt muutokse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ketti vielä osin keskenerä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simerkkisanomat tullaan päivittämään vastaamaan uusinta versiota (tällä hetkellä 2.5 version mukai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pic>
        <p:nvPicPr>
          <p:cNvPr id="111" name="Picture 5" descr="eResepti_logo"/>
          <p:cNvPicPr/>
          <p:nvPr/>
        </p:nvPicPr>
        <p:blipFill>
          <a:blip r:embed="rId1"/>
          <a:stretch/>
        </p:blipFill>
        <p:spPr>
          <a:xfrm>
            <a:off x="2549520" y="3281400"/>
            <a:ext cx="3684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1:33:32Z</dcterms:created>
  <dc:creator>Kela</dc:creator>
  <dc:description/>
  <dc:language>en-US</dc:language>
  <cp:lastModifiedBy>ta40zdi</cp:lastModifiedBy>
  <cp:lastPrinted>2007-12-20T08:44:53Z</cp:lastPrinted>
  <dcterms:modified xsi:type="dcterms:W3CDTF">2011-08-30T10:35:44Z</dcterms:modified>
  <cp:revision>200</cp:revision>
  <dc:subject/>
  <dc:title>Pääotsikko Arial Bold 32 pistettä</dc:title>
</cp:coreProperties>
</file>