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119E-9269-470A-9E93-B31BF6C80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07D0-B812-40D9-B5B1-706CEA14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2724-D1BA-4A77-B3A2-19B0397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728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280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728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280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B5A6-13E4-49F3-80DA-B562DA4F6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041F9-7D95-46C2-9CF5-CEE7D95C37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E50D4-1B91-4EE1-BD1B-0943E4C72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41AE6-6DEB-4FFC-A112-B5FBEF8997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5BA4E-02C2-4832-8ABA-153DE74F7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B2B88-D763-4AF8-B71F-168126047A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228240"/>
            <a:ext cx="8178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417FB-9624-4264-8285-A50A11F963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CAC6A-AAC1-4712-8707-419766800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BC43-763D-4C66-9113-42F2065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DBDB8-E3E6-437D-A8BD-F7F55CDAF5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AD667-7AAB-4D3A-AE11-6DA5B5FD3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2439E-5D57-4679-9D34-1932CA3C4B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8EA84-40DA-4418-85DF-C7B84598C3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728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280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728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280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50258-188D-4656-B92A-3D8D0FBC40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5EBC-A3FE-4636-A20B-EB719E26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8AC5-A314-4E7F-A430-88D788F5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E0AE-35CF-4146-B980-628191DD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228240"/>
            <a:ext cx="8178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D6AC-E359-435D-B5B5-5652A088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1A02-DDFA-43BA-AB58-E47359F5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F92C-43E7-4ED5-AAD3-3F18EA3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F293-83AE-400F-834A-92916A30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6600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66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17880" y="6433920"/>
            <a:ext cx="12700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         </a:t>
            </a: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24.10</a:t>
            </a:r>
            <a:r>
              <a:rPr b="0" lang="fi-FI" sz="1000" spc="-1" strike="noStrike">
                <a:solidFill>
                  <a:srgbClr val="5e574e"/>
                </a:solidFill>
                <a:latin typeface="Comic Sans MS"/>
              </a:rPr>
              <a:t>.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15160" y="6433920"/>
            <a:ext cx="12700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Sivu  </a:t>
            </a:r>
            <a:fld id="{FE79073C-DF1F-4F11-90A5-CB45482211CF}" type="slidenum">
              <a:rPr b="0" lang="en-US" sz="1000" spc="-1" strike="noStrike">
                <a:solidFill>
                  <a:srgbClr val="5e574e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14400" y="907920"/>
            <a:ext cx="8229600" cy="384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6345360"/>
            <a:ext cx="2827080" cy="345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19240" y="6434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nceptia 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3280" y="1196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49640" y="632412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603840" y="63241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855-7ECF-4611-B838-B1192591A1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252900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34920" y="189000"/>
            <a:ext cx="6048360" cy="752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48360" y="189000"/>
            <a:ext cx="1224000" cy="88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240" y="6434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nceptia 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6600cc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6600cc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280" y="1196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Yleinen kuljetuskehys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ID 1.2.246.777.11.2003.x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58920" y="3644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TP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SOAP Määrityk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Timo Itälä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18.12.20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Lähete/Hoitopalaute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2492280"/>
            <a:ext cx="522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Lähete/Hoitopalautesanoman schema kattaa sekä lähetteen että hoitopalautt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REFS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E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REF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84508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70EC-D0FA-4785-B542-58A50216FD6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98EB4-4E7F-420D-A6C1-27383EACB36D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Lähete/Hoitopalautteen kuittaus LAHEKU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655640" y="3392640"/>
            <a:ext cx="6588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Lähete/Hoitopalautesanoman schema kattaa sekä lähetteen että hoitopalautt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MAIN_LEVEL xmlns:arb="urn::refdb-body"&gt;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MAIN_LEVE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133800" cy="92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A2D4-138E-4120-90DC-1BC4AA620E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C2AB4-115D-43E0-84D9-F9D9B10D2C22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Kehyksen Action-elementin ja Bodyn metodin vastaavuudet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6360" y="1592280"/>
          <a:ext cx="8178840" cy="44924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3697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o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eaihioiden lähet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ders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K 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he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K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atun sisällön kys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RY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atun sisällön vas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A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ähete/Hoitopala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ähete/Hoitopalautteen 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_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it san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it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27FA-0D19-4711-BF09-5A20192F5C9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E16FF-F630-4052-BD13-091B4B62E32B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6600cc"/>
                </a:solidFill>
                <a:latin typeface="Comic Sans MS"/>
              </a:rPr>
              <a:t>Toimituspaketti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168640"/>
            <a:ext cx="270036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Kokonaiset san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Sche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Tämä Powerpoint-esit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2000" y="2816280"/>
            <a:ext cx="1189080" cy="144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2720" y="3643200"/>
            <a:ext cx="1908360" cy="360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32000" y="5336640"/>
            <a:ext cx="1224000" cy="1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56000" y="1557360"/>
            <a:ext cx="535320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0DC7-A60C-41BE-8DAC-BBE1167920D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AE763-3CF5-4425-8736-5F7E91A4E8E5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Avoimet Rajapinnat 1.1 määritysten muutokset 18.12.2003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8560" y="1378080"/>
            <a:ext cx="85820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äärityksiin on tehty seuraavia muutoks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SOAP sanoman body-osa on varustettu luokan ja metodin tunnuksella, jolloin SOAP-prosessori ohjaa sanoman suoraan sen käsittelijäl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Schemat on jaettu uudestaan siten, että kaikille sanomatyypeille on yhteinen SOAP-headerin schema sekä jokaiselle oma SOAP-bodyn sche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uutosten ansiosta sovellusten rakentaminen helpottuu sekä ajoaikainen suoritus keven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Nykyisiin sanomiin tehtävät muutoks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Kaikissa sanomissa SOAP body-osan alkuun on lisättävä luokan ja metodin tunnu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uutokset tulevat voimaan he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Uusi sanoma mukana paketis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Uutena sanomana on pakettiin lisätty luonnosvaiheessa oleva lähete/hoitopalaute- sekä tämän kuittaussanoma ja näiden sche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4D18-3343-408D-9B51-0FE96598D9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6847E-1411-4654-A4D3-4FD0F134DE26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6600cc"/>
                </a:solidFill>
                <a:latin typeface="Comic Sans MS"/>
              </a:rPr>
              <a:t>Sanomien Header-osan schema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581440" cy="3162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0200" y="4473720"/>
            <a:ext cx="8389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eader-osan schema on kaikille sanomille yhte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ar:MessageHeader on kaikille pakollinen elemen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muut elementit eivät esiinny kaikissa sanomissa, joten ne on merkitty vapaaehtoisiksi. Sovelluksen on tarkistettava, että käsiteltävänä olevassa sanomassa on tarpeelliset element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Body-osaa ei ole tarkoitus parsia eikä validoida Headerin käsittelyn yhteydess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23F7-A27C-443C-8852-40947A4D390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40642-C340-4D7E-9DF6-8FACFCF4CDD0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280" y="188640"/>
            <a:ext cx="81788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eaihiot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9280" y="1268280"/>
            <a:ext cx="3657600" cy="83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2384280"/>
            <a:ext cx="83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Jokaiselle sanomalle on oma Body-osa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Body-osa alkaa esimerkiksi seuraavas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HeadersBody xmlns:arb="URN::refdb-body"&gt;</a:t>
            </a:r>
            <a:br>
              <a:rPr sz="1600"/>
            </a:b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clinical_document_hea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id EX="a123" RT="1.2.246.576.10.Y-tunnus.13.2002.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9280" y="3141720"/>
            <a:ext cx="2665440" cy="57456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7984400">
            <a:off x="5040720" y="2996640"/>
            <a:ext cx="540000" cy="252360"/>
          </a:xfrm>
          <a:prstGeom prst="leftArrow">
            <a:avLst>
              <a:gd name="adj1" fmla="val 50000"/>
              <a:gd name="adj2" fmla="val 534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45080" y="2563560"/>
            <a:ext cx="25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mic Sans MS"/>
              </a:rPr>
              <a:t>Luokka, joka käsittelee sanomien body-osat. Sama kaikille sanomil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465800">
            <a:off x="503280" y="3680280"/>
            <a:ext cx="539640" cy="252360"/>
          </a:xfrm>
          <a:prstGeom prst="leftArrow">
            <a:avLst>
              <a:gd name="adj1" fmla="val 50000"/>
              <a:gd name="adj2" fmla="val 534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280" y="4219200"/>
            <a:ext cx="18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mic Sans MS"/>
              </a:rPr>
              <a:t>Metodi, joka käsittelee viiteaihi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8657-200C-4ACA-A4B5-5AB160EA9EE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D8832-12C2-4A36-87DE-AD56AF6404EB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K kuit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95640" y="1484280"/>
            <a:ext cx="1609560" cy="66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6560" y="2349360"/>
            <a:ext cx="83901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yväksyvä kuittaus viiteaihioiden onnistuneeseen siirtoon. Kuittauksessa ei ole mitään sisältöä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AckBody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0412-8A69-4975-B77D-3E062BB12A5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5354A-44FE-445E-BF02-7BFEE2A62999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rhekuit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753000"/>
            <a:ext cx="838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ylkäävä kuittaus viiteaihioiden siirtoon. Kuittauksessa voi olla virheilmoituksia sekä virheellisiä viiteaihioi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NAKBody xmlns:arb="URN::refdb-body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xmlns="urn::hl7-org/cda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HL7FIErrSeq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592280"/>
            <a:ext cx="6553440" cy="19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B622-395F-4CE3-9F04-BD76DF91348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D5233-DCD9-47E2-A9B5-6F2333098F20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atun sisällön kysely viitteen avulla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708280"/>
            <a:ext cx="88218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Viitteen avulla tapahtuva kysely. Viitattu sisältö tunnistetaan set_id elementin avul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QUERY_ID xmlns:arb="URN::refdb-body" Give_Structured_Format="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set_id EX="20020531111232100"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       RT="1.2.246.537.10.2013120.1.8123.1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arb:QUERY_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48000" y="2023920"/>
            <a:ext cx="2409840" cy="2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3ABE-CBD8-4C00-905A-C2C4E15CC64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B6503-2DE4-4BCF-96A5-BE62D2E684F3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atun sisällön vas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1280" y="2997360"/>
            <a:ext cx="8821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Viitatun sisällön palauttami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CDABody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levelo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clinical_document_hea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71640" y="1773360"/>
            <a:ext cx="5038920" cy="99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0056-3973-421C-A95E-E72BCBBCF5E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31458-A5DF-4CCA-BD8C-0CE3D7D0ABD9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K-kuittaussanoma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852640"/>
            <a:ext cx="82090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OK Kuittaussanoma (esimerkiksi kuitataan asynkroninen viiteaihioiden lähetys vastaanottokuittauksel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CommitBody xmlns:arb="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URN::refdb-bod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errcode&gt;0&lt;/arb:err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errTxt&gt;OK&lt;/arb:errTx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Commit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24360" y="1665360"/>
            <a:ext cx="2695320" cy="92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62C9-632A-4B9C-ADAC-107DFC6D6B3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741F4-0F2E-47A1-B132-0CF7EC6CECA5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08:42:28Z</dcterms:created>
  <dc:creator>Timo Itälä</dc:creator>
  <dc:description/>
  <dc:language>en-US</dc:language>
  <cp:lastModifiedBy>Timo Itälä</cp:lastModifiedBy>
  <cp:lastPrinted>2002-02-06T05:50:47Z</cp:lastPrinted>
  <dcterms:modified xsi:type="dcterms:W3CDTF">2004-01-10T20:41:01Z</dcterms:modified>
  <cp:revision>310</cp:revision>
  <dc:subject/>
  <dc:title>Uudet schemat</dc:title>
</cp:coreProperties>
</file>